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957-CE81-4DAB-AAEE-25A4CBA3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242-C5BE-472D-A731-E04FB90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45251-C8FA-4B88-9ABC-0ABC369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F5E5E-1A8F-41F7-AE3C-101E617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1937-2843-40DD-BD2F-74B1B06D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6BBDD-0502-476B-BEDE-BE23967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0388C-32BA-47E3-B229-6F59ABA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9B263-F54B-4E9E-879C-FFA516D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4C377-A4A9-4515-8A19-DD59F31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2C27-DCAF-488F-BAA8-D117722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5D323-4483-4001-85CF-2A6CC559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4CE17-1566-4388-9E98-C39DF3FD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C55-5547-4CF9-8EF0-ABEC349D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3EB13-A120-4FE8-9A4D-5E97767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682E9-773B-4B7F-A73A-47FBF64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074EF-ED29-4DD3-AAAE-594D96F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EE79-F7C7-402A-8FB3-19057DE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CF52-2F3A-4FD0-800F-E013C31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4D825-16ED-4EFD-9C02-46B764B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FE7DC-8E0E-49BF-A180-313A8FAC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9BB3E-D723-432F-A369-261261C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F8CCA-3240-4185-ABA2-24D63A1B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39FDF-5FD1-4DCC-AD39-6D9A02A7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3B5-E513-4644-B5D3-C3FB4F2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F76F3-1EDC-48D4-8F72-08BF07C7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F473C-51A6-4C78-BA7D-4986511A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7958D-4973-4800-AC8F-0AF3C5A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EF11F-5210-416F-AB8F-EC00DA3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B297B-EEC7-4239-A570-1CDFE056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A446-D0AD-4675-B7C0-1C190C0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5375D-5D8F-46D5-9A3D-9046AB4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413B4-82C0-411F-9153-F98DB9F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DEAF-47D1-4590-82A8-1E8A465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70F6-1C18-42C6-9F27-A314D74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FF8F-9124-4464-A5A8-FB22CF3C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47A72-72F9-4669-B3FC-0F94457E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974AF-5C7B-41BA-B625-1E0F5269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7A55-7496-4BBB-8404-0A128F1B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FE9C9-DCCA-4E57-948B-BB46D5D0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CA080-CD33-4044-AC99-DC9025C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D3822-E725-4A95-BCE1-5EFDE830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F4794-53D8-4130-A3C5-81B17A01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03BAA-FD4B-4A5A-A2E8-657961C3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68A59-B9CC-4BD7-BC32-7C7B5FA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36D69-D9E7-4483-99DE-A2A3367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CA21-96B2-4E53-A613-09BCB14E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81C8-04C2-40D5-BEFC-E9699DB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38201-1691-422D-B591-241ED4B9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04D38-7B50-4AEB-9E6C-A41C3663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973A-7BF8-46B8-855E-83232935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BF9C7-A22F-4839-AF81-3C72CE35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66130-97E7-4F44-9391-59B0FA11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E18F4-2D22-4BD1-B1E7-066AA38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C8200-22B6-4BD3-9716-3A6C98F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EA15F-762F-42C1-A5D7-F1DFF7D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4AE41-2F3E-4D4D-A6E7-C6A09F20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8F64-641E-4B42-B931-75320E1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8346-44E7-4556-B853-3404C53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2B5C2-27BD-4AF8-A809-0E0543C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3BAE1-F7D3-4277-8854-9C0ADD5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B612C-A583-40FA-AA08-C42E85A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28F2A-550B-45BF-99CA-3D0050B8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27851-7A99-48C2-8B4B-07422335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00148-A938-47C7-BF8C-42FDC4D7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18F37-89BF-4D15-8093-88543C8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42FAF-B79E-44C4-97A7-2D24B2A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F9472-17B5-41C9-9C5B-B34C8381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796-C538-468E-BCDD-4FBD9841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3E0DB-6319-4CE3-A170-14EA2E6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B5117-CBCE-4B59-BA2C-2537DDF8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6D238-F626-46FE-B7ED-7EC4D21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6B869-A505-4533-A071-9CA7537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B8C72-D10D-4A03-A958-145E6BB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9FFF1-F080-4335-996C-12D5537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45274-F2C5-42E3-AF6E-98F15C52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B3B03-364F-4823-8474-CAE7F768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DA25B-4B11-47C0-9CB7-1D67C707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AE1FB-6AE4-4BB0-92C0-57860F08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5A68-D324-4168-BD74-CDB6ABC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87ACD-5703-4D93-9EBD-E5F750E9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64DFA-962C-4D3D-974F-86B99BF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876FE-2A68-4693-A524-23A7FFA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CBA09-A400-4FEA-BF20-8155441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F755E-09DD-4093-BFE4-3A56E97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DB622-F78D-4B91-8784-06B5CB4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9A269-B994-4486-8CC8-4AC8BCF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71EC3-33EE-41B2-A8A3-7CA33D3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1D7A4-8136-4429-8B00-DB29983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59F87-11B3-4D0D-A515-ED9FDED7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7D8-7822-42C2-B867-49D1691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27E94-3440-4C35-96A7-D496FA6E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F68B2-1D3D-4933-BD07-974F8165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B954A-A2BF-4E0F-995E-9935FC3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62DA5-E46B-420B-A5FF-12A817E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F3830-C8F4-44CF-9A0F-F28F578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4AA9A-A4F4-4DF9-A6EF-E0628461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820DA-9D7A-4623-B141-F4DC4B06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8DB22-CF0C-4E09-85F5-BB2BA1F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1C8F6-50C3-471A-8D0E-D2DD28C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9DEF4-9546-47BB-A882-B225D1F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433-6E61-4EAD-9E67-4A389E7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1F93C-89CE-4D0A-8088-B20DD74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80041-B651-4990-86CB-4F2F807D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1169A-CC5B-4D02-BDD6-529930A4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A6234-AE32-4AAC-A834-DCDEF06F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6F80C-9877-4CFE-B812-BFDE858C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4B4A0-A39F-475B-845F-9DE53A3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E6AFF-8471-4769-9834-AA1FA0E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D8DC3-5902-4DD3-B12C-8D0E2C8A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71FB4-15F6-45FA-8E73-0D3E8224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A4253-FB9B-47C6-85E8-AEF7B4A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FFD-3E03-4529-B371-FC47ACE2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621A-8858-4088-A789-44A2463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B9C36-7A62-433E-8A1E-76A517A3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83B9A-CE2D-49BF-8233-D42BEA00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BCCD9-5C6B-4C42-A963-6E02CDE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2B809-6F94-4D49-8CF6-60814D0E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01521-C9F0-4E3E-AC30-E64CAB95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5D523-6739-4981-9F31-A2F448F6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34F2A-8430-4873-B7B2-2EEFB8EC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0D037-3B69-4DFD-81FD-D0B0506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AB859-EF7E-4182-9092-C7666AE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DC929-976E-4E06-8192-606923E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141E-CADD-4173-B9E2-9FDE869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94BBB-E9D8-4338-8C0C-290ADFD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0F680-F1C1-45D3-AD2B-C4AC52D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6CFD2-6E90-42BC-B3BC-FE110D5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75BCE-4441-417F-9580-8B170C8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0DCCD-A563-4D81-9108-C0E4E27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9BA03-C49B-40D4-AAA3-BDE1B0E0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78A72-B3F8-403F-B640-BB33D7C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6FDB2-DDD0-44BB-92D6-9679E4CA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DC6C8-16EC-45AF-B8AD-6B2F4FB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90504-24F1-474A-A3B0-A6309A3E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D4B-E9C9-4C63-A2B7-3BE66B4B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32869-5494-4EBB-A83A-1525ABB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2E970-84AB-4F76-A75E-812B212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9D94E-8148-46B8-8D45-B834F26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31E0D-F363-418D-9DFD-990ADA8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4A073-D067-4E00-B61B-BFAA9BF1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61B59-67E1-4498-9B15-5A126D8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E2704-C58E-48B2-9000-B3E0A3D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BA282-0BE9-4D24-8B15-74A776BD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BD9BB-1118-45D2-835C-8E4EF719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01E01-DDD3-4B9A-ADF5-FD728BC4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2B1-C869-4864-9F9F-B57681D4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312DA-2B63-467B-9B83-A8526A9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55AD6-6551-474C-ACCF-8C04B24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7ABA7-43FA-4650-9F4D-1D1482D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F3149-5715-4452-9514-192FBF35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11444-985C-4F58-B6C7-E9DDCED6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A19BA-4D3F-49E7-9EDC-A13DACF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9503A-5953-427D-BB96-1CECF737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6303D-18E1-436C-8A0A-CB63CC9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6267C-D345-4CC6-BE94-36BE535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FDB76-B0A9-47F1-AB7E-C58E255B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2101-9993-4FEA-9ECC-DBE7EB18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81BB9-5B22-4557-9F2B-7C76F1CC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6216D-0919-44A1-9416-B987F6A3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880F5-288A-46E2-8A0E-5F38374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86E85-B1CD-4CAD-959C-169D269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E80CF8-166F-449B-9B2A-3F95B36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00B95-D756-4E69-8C62-0265201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951D1-BD54-45AB-AEC3-E59DAFC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7FD04-E365-49BA-8767-13A4CB9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1FD67-E254-49BD-8949-746186C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435C1-9276-4FE9-8390-F3B391C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D351-C1A7-4213-8DE8-6270D1C7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C24C9-F363-43D3-A1E8-B5A9D39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C5AEA-079E-482C-B35A-6A176FAA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693B39-ECBC-47D3-8A5B-8D17FA8C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5B2B-6C6E-4E9E-9475-7E4746A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272E-C3AB-40E5-99AD-45A069A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D658-08D1-48E5-B152-2F11CC0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7E07-BBC9-4B03-BA95-2F7A550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A2D-F14D-45FB-83D3-E8F654E6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C4AC-8226-49C3-B05D-45EB7A7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5E3F-6556-4FCC-A9A2-3E831A0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35BE-6B39-414A-BE43-3D6EB12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7E0C-D03E-43A4-B281-9560D6B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2457-CE75-45A4-A722-52B558A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5AB1-BB89-4ECD-8563-439C65AA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4A07-0E72-4E5B-9E7B-0DB97676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8EE0-380E-41E7-8347-7A28BDE6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F059-66AB-4A7A-B435-64E24C6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1AA0-F47B-46F0-A671-091D9FD5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699-590D-4B54-8380-E51FDAE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85C0-E973-4FAE-B80E-D75AA3A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B902-8554-4341-974C-F940527B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7593-6638-42D8-93F0-D37BDB9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FFD5-E7E9-4934-AD83-8A4F49B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5975-44F6-4727-9C14-634BC11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822E-6DA4-4E1C-B6DE-932000D4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662A-7F74-4152-A543-5C76390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CB64-D50A-4F66-A111-245F89F2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087B-453C-495D-BEF1-53A895AA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ADB9-9EE6-48E1-B476-13EC520E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5C9-43CE-4D39-B8F7-F2DBBDE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D9E4-6AB2-4B49-8A33-050E1880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2E57-5961-49B2-8A0E-8869241F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53E2-C26E-4FBB-A993-C4419AD5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E980-8388-4DB7-B0B7-6AFDCCD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A31C-40CF-4D40-8544-00422AB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676D-CD5A-4BA9-A46A-B34A5A4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2613-A717-42E4-A072-5D4DC18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59F7-76D4-481B-8B92-F6A0613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352A-E731-4572-A9A5-F7F60F5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BE46-D356-4796-BBAD-810EDDA6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43D-AFBB-4B17-AA8D-482D7642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6455-5941-4882-94D1-B2639948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FBF8-EE94-41C2-91CC-9FF6773E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FDBB-8B00-4BF7-AFD8-A343AE5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DEA9-ACA0-427C-9703-B0CB5A5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FA34-AB6D-4950-AE42-F32262A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0E9D-042B-4872-ABF9-6586D3B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33BD-3CAE-4C33-B1E6-8A3553D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711F-A106-4527-806D-7C3FFBAB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61F7-ABDC-4D8D-96D2-A5D7ACC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F90D-06DF-492F-BA22-8704312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B49-B314-4EDE-9D31-55D19833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BB6A-62FB-4287-9CFC-472A293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969F-2928-46FF-BA29-2093331E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2AD1-3C4F-4764-B5DA-A89672F9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3BA5D-48F2-447A-B56F-BFB24260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CD12-D53B-40DC-A17D-D921CB9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8832-BA0B-4D81-B18A-E23A086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1BCE-A74C-42F0-9AC8-0D83945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E9BC-7517-4117-8505-AEE5CA11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2E2C-35A4-46E3-A336-F3905C2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4A08-2ABC-4798-87CF-9B385BC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539-A530-4C40-BA18-A3FEA25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198C-D23E-47BB-B6D9-425F3D0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D314-11CD-4FBB-8EFE-2ABD7B0F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4E93-2D06-4474-BBA6-31F9D8D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C4E69-05DA-4AFA-A271-12A1ACF4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233A-FC2D-42BC-B3F3-A6310974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C2E5-1B16-4C18-A7EA-5BCEED66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6EAB-D76A-4B06-98B9-44403644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20568-9134-430C-88BE-FE88CA1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B076-DC29-43AD-B01C-05D4E603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B3FF-F499-476E-A4DC-4B8A2BF5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28B-74D5-4CD0-ADAC-4FE1A36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5D38-D149-465E-86CF-3FB2D1C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9C47-6884-47A8-B7B3-E0221066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63DF-A3D4-4D62-AEAE-C7BE5CE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CA26-9094-4F38-8329-F83FB9C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513D-C655-4842-A794-0C454280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68C7C-3D37-48B8-A3D5-CA4AC571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6530-90DB-4F21-AC3A-7057447B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47270-687F-4369-B515-99B92DB7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51891-6799-4F7D-B7B4-F279CF8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4BED2-5973-4E0D-A5B2-A78A393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D8CC-3649-47D1-91EE-68FF0B4E0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FCA8-7273-443F-A989-86D5CA9C8E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5A6-8E84-4449-86FB-0B00E3E29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FA41-EF5F-44F9-8229-520C219CD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781A-6C68-457D-965C-DCB1B51C1D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044-A008-4405-ADF0-F7F3FFEE2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C03-0D7A-40AE-92A3-1DFE9C2ED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D48-C455-40F5-834C-0C5BBAC35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5BAB-D8FE-4CF4-B3A5-73194CAFBF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B48-D5B1-455A-9908-0FFA640BF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62D-1C75-40E0-9C92-F09E91503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C601-2904-40A1-8810-853D74CE1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1C4A-BAFE-4A19-8970-BF2183285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9AE-3C84-4A44-993B-E3EA57A7E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A46-098C-4619-9060-B870F2938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DA6-3FA5-4225-BEBB-C7A2AADA9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70E-67B4-4FB8-AD36-52F3229D7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1D06-65CC-430B-88D6-290F3CF9E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9FEB-2670-4733-965E-0DC128926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F46C-1804-48FF-97DF-96F2D9CF2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27B9-4CA5-4B20-8B7F-F4068D721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33C-C7BA-45ED-856E-530E9EF38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359-864B-4FFA-834B-380358F18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7F7-B06D-45FC-860F-07076488B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D9AA-0E21-4C3B-A9E4-D2C9B637A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10B2-DB4F-4A31-8C03-580AA37D0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991-653F-499B-98B5-544E4FFA1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736E-266E-4F63-BD57-579CBB30AB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150-7D11-4E21-B656-79A2A69B8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BF3-2769-4708-B90F-5BC0FAC00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025-E012-4132-8DAD-86928BEA51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2CA9-207F-4A16-9A64-E31A5E20C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4A4-913E-4EA2-927E-5107CBC2F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5B9-F9C3-4F24-B70B-890CAE148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3A94-25F2-4D5A-9E82-46D50FD1F7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A79-6067-4C12-8D0B-149BF6EF3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A740-6F1C-43FC-A2B3-EF908C239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831-E4A3-407B-B667-FA2CB3C9E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2D6B-DA53-495E-993C-FFD428107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537-4886-45B3-B07A-5FC209D17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47920" y="2676600"/>
            <a:ext cx="62481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42800" y="1095480"/>
            <a:ext cx="8258400" cy="4667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78320" y="234936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1187280" y="2670120"/>
            <a:ext cx="1698840" cy="385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03640" y="273672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788000" y="314172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60433" descr=""/>
          <p:cNvPicPr/>
          <p:nvPr/>
        </p:nvPicPr>
        <p:blipFill>
          <a:blip r:embed="rId6"/>
          <a:stretch/>
        </p:blipFill>
        <p:spPr>
          <a:xfrm>
            <a:off x="1187280" y="3448080"/>
            <a:ext cx="1698840" cy="385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203640" y="351468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788000" y="389556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516720" y="389880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7" descr=""/>
          <p:cNvPicPr/>
          <p:nvPr/>
        </p:nvPicPr>
        <p:blipFill>
          <a:blip r:embed="rId10"/>
          <a:stretch/>
        </p:blipFill>
        <p:spPr>
          <a:xfrm>
            <a:off x="1216080" y="42433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943440" y="4292640"/>
            <a:ext cx="21564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572000" y="4292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763640" y="509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995640" y="509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227640" y="509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8459640" y="509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1763640" y="54259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851280" y="5445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227640" y="54259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8459640" y="541656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309600" y="2509920"/>
            <a:ext cx="8524800" cy="1838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00000" y="326556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619280" y="293364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3030480" y="325116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3749760" y="2919240"/>
            <a:ext cx="93672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5148360" y="327492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5867280" y="2943360"/>
            <a:ext cx="936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7245360" y="328464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7964640" y="2952720"/>
            <a:ext cx="93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171360" y="1152360"/>
            <a:ext cx="8801280" cy="4553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90640" y="292428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2709720" y="25700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2700360" y="292896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4754520" y="256536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4745160" y="292428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6362640" y="255600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9"/>
          <a:stretch/>
        </p:blipFill>
        <p:spPr>
          <a:xfrm>
            <a:off x="6353280" y="291456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0"/>
          <a:stretch/>
        </p:blipFill>
        <p:spPr>
          <a:xfrm>
            <a:off x="539640" y="430200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1"/>
          <a:stretch/>
        </p:blipFill>
        <p:spPr>
          <a:xfrm>
            <a:off x="395280" y="461952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2"/>
          <a:stretch/>
        </p:blipFill>
        <p:spPr>
          <a:xfrm>
            <a:off x="395280" y="495144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3"/>
          <a:stretch/>
        </p:blipFill>
        <p:spPr>
          <a:xfrm>
            <a:off x="395280" y="529128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4"/>
          <a:stretch/>
        </p:blipFill>
        <p:spPr>
          <a:xfrm>
            <a:off x="8388360" y="250200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5"/>
          <a:stretch/>
        </p:blipFill>
        <p:spPr>
          <a:xfrm>
            <a:off x="8388360" y="28623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6"/>
          <a:stretch/>
        </p:blipFill>
        <p:spPr>
          <a:xfrm>
            <a:off x="8388360" y="321300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7"/>
          <a:stretch/>
        </p:blipFill>
        <p:spPr>
          <a:xfrm>
            <a:off x="8388360" y="3583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8"/>
          <a:stretch/>
        </p:blipFill>
        <p:spPr>
          <a:xfrm>
            <a:off x="8523360" y="393372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9"/>
          <a:stretch/>
        </p:blipFill>
        <p:spPr>
          <a:xfrm>
            <a:off x="8513640" y="429264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0"/>
          <a:stretch/>
        </p:blipFill>
        <p:spPr>
          <a:xfrm>
            <a:off x="8513640" y="466236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1"/>
          <a:stretch/>
        </p:blipFill>
        <p:spPr>
          <a:xfrm>
            <a:off x="8397720" y="504180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2"/>
          <a:stretch/>
        </p:blipFill>
        <p:spPr>
          <a:xfrm>
            <a:off x="8613720" y="5411880"/>
            <a:ext cx="3398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6:09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